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svtrshilos_chudo.wav" ContentType="audio/x-wav"/>
  <Override PartName="/ppt/media/image4.png" ContentType="image/png"/>
  <Override PartName="/ppt/media/image5.png" ContentType="image/png"/>
  <Override PartName="/ppt/media/spokoistvie.wav" ContentType="audio/x-wav"/>
  <Override PartName="/ppt/media/prodolgaem_razgovor.wav" ContentType="audio/x-wav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0858-2922-4687-80FF-58993610CF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BE58-D9C9-43FB-8F69-F620FEE3BE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A204-9BF6-49A2-BAE4-A202F8BAD0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1B65-F93E-4BC1-9BF4-579A13A1E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0FF9-A4FF-4A79-88A4-91A3A2805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3F0-96F9-4C59-AB0A-88B0E02205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8A89-7919-4187-AD04-AAE314114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254-520F-4502-AAB8-FEA010CB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A15-04FA-4164-A5E0-56D1C002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E30-A2C3-4666-A2DA-0C57470F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267-35E4-4ACD-B488-EBB3F78A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81F-750D-45FF-9090-F86AED15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47E-3DC1-42FF-A699-3D72CFAA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FFF-4934-4C64-BD66-6609FA1D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45D-AA21-4964-A9DF-1252D08C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549-858E-48E5-844E-74BBE365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5E1-7436-477D-928E-7E5EC694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8C4-EA90-4062-A03F-1FFFF35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773-3E96-477F-BF10-EBC48D31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7" descr="th-165-karlsson.jpg"/>
          <p:cNvPicPr/>
          <p:nvPr/>
        </p:nvPicPr>
        <p:blipFill>
          <a:blip r:embed="rId2"/>
          <a:stretch/>
        </p:blipFill>
        <p:spPr>
          <a:xfrm>
            <a:off x="179280" y="0"/>
            <a:ext cx="2048040" cy="17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FAD7-AEF8-4A4F-B5CB-7FA340C66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spokoistvie.wav"/><Relationship Id="rId3" Type="http://schemas.openxmlformats.org/officeDocument/2006/relationships/audio" Target="../media/prodolgaem_razgovor.wav"/><Relationship Id="rId4" Type="http://schemas.openxmlformats.org/officeDocument/2006/relationships/audio" Target="../media/spokoistvi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spokoistvie.wav"/><Relationship Id="rId3" Type="http://schemas.openxmlformats.org/officeDocument/2006/relationships/audio" Target="../media/svtrshilos_chudo.wav"/><Relationship Id="rId4" Type="http://schemas.openxmlformats.org/officeDocument/2006/relationships/audio" Target="../media/spokoistvi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pokoistvie.wav"/><Relationship Id="rId2" Type="http://schemas.openxmlformats.org/officeDocument/2006/relationships/audio" Target="../media/svtrshilos_chudo.wav"/><Relationship Id="rId3" Type="http://schemas.openxmlformats.org/officeDocument/2006/relationships/audio" Target="../media/spokoistvi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МК «ШКОЛА    2100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Число ше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Цифра 6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776160" y="1700280"/>
            <a:ext cx="6993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инки -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terrikon.com/i/000/h/th-165-karlsson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one.rushill.ru/uploads/posts/2011-02/1297020918_6b.jp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льтфиль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youtube.com/watch?v=kBVK8afO5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451400" y="4581360"/>
            <a:ext cx="183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Малыш и Карлсон 00_04_32-00_04_38.mp3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1297020918_6b.jpg"/>
          <p:cNvPicPr/>
          <p:nvPr/>
        </p:nvPicPr>
        <p:blipFill>
          <a:blip r:embed="rId2"/>
          <a:stretch/>
        </p:blipFill>
        <p:spPr>
          <a:xfrm>
            <a:off x="2560680" y="828720"/>
            <a:ext cx="3979800" cy="5937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1181520" y="4437000"/>
            <a:ext cx="677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моги Малышу выполнить зад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придумал Карлс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6">
            <a:hlinkClick r:id="rId3" action="ppaction://hlinksldjump"/>
          </p:cNvPr>
          <p:cNvSpPr/>
          <p:nvPr/>
        </p:nvSpPr>
        <p:spPr>
          <a:xfrm>
            <a:off x="3564000" y="5732640"/>
            <a:ext cx="2087640" cy="504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ВПЕР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Малыш и Карлсон 00_04_32-00_04_38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07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650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50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"/>
          <p:cNvPicPr/>
          <p:nvPr/>
        </p:nvPicPr>
        <p:blipFill>
          <a:blip r:embed="rId7"/>
          <a:stretch/>
        </p:blipFill>
        <p:spPr>
          <a:xfrm>
            <a:off x="5573880" y="4290840"/>
            <a:ext cx="194940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Группа 4"/>
          <p:cNvGrpSpPr/>
          <p:nvPr/>
        </p:nvGrpSpPr>
        <p:grpSpPr>
          <a:xfrm>
            <a:off x="3132000" y="836640"/>
            <a:ext cx="2880000" cy="2592360"/>
            <a:chOff x="3132000" y="836640"/>
            <a:chExt cx="2880000" cy="2592360"/>
          </a:xfrm>
        </p:grpSpPr>
        <p:sp>
          <p:nvSpPr>
            <p:cNvPr id="68" name="Прямоугольник 1"/>
            <p:cNvSpPr/>
            <p:nvPr/>
          </p:nvSpPr>
          <p:spPr>
            <a:xfrm>
              <a:off x="3132000" y="1989000"/>
              <a:ext cx="1440000" cy="144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оугольник 2"/>
            <p:cNvSpPr/>
            <p:nvPr/>
          </p:nvSpPr>
          <p:spPr>
            <a:xfrm>
              <a:off x="4572000" y="1989000"/>
              <a:ext cx="1440000" cy="144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Равнобедренный треугольник 3"/>
            <p:cNvSpPr/>
            <p:nvPr/>
          </p:nvSpPr>
          <p:spPr>
            <a:xfrm>
              <a:off x="3132000" y="836640"/>
              <a:ext cx="2880000" cy="1152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Скругленный прямоугольник 5"/>
          <p:cNvSpPr/>
          <p:nvPr/>
        </p:nvSpPr>
        <p:spPr>
          <a:xfrm>
            <a:off x="1908000" y="4149720"/>
            <a:ext cx="1008360" cy="115092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150920"/>
              <a:gd name="textAreaBottom" fmla="*/ 1101960 h 1150920"/>
            </a:gdLst>
            <a:ahLst/>
            <a:rect l="textAreaLeft" t="textAreaTop" r="textAreaRight" b="textAreaBottom"/>
            <a:pathLst>
              <a:path w="21600" h="24653">
                <a:moveTo>
                  <a:pt x="3600" y="0"/>
                </a:moveTo>
                <a:arcTo wR="3600" hR="3600" stAng="16200000" swAng="-5400000"/>
                <a:lnTo>
                  <a:pt x="0" y="21053"/>
                </a:lnTo>
                <a:arcTo wR="3600" hR="3600" stAng="10800000" swAng="-5400000"/>
                <a:lnTo>
                  <a:pt x="18000" y="24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6"/>
          <p:cNvSpPr/>
          <p:nvPr/>
        </p:nvSpPr>
        <p:spPr>
          <a:xfrm>
            <a:off x="4067280" y="4149720"/>
            <a:ext cx="1009440" cy="1150920"/>
          </a:xfrm>
          <a:custGeom>
            <a:avLst/>
            <a:gdLst>
              <a:gd name="textAreaLeft" fmla="*/ 48960 w 1009440"/>
              <a:gd name="textAreaRight" fmla="*/ 960480 w 1009440"/>
              <a:gd name="textAreaTop" fmla="*/ 48960 h 1150920"/>
              <a:gd name="textAreaBottom" fmla="*/ 1101960 h 1150920"/>
            </a:gdLst>
            <a:ahLst/>
            <a:rect l="textAreaLeft" t="textAreaTop" r="textAreaRight" b="textAreaBottom"/>
            <a:pathLst>
              <a:path w="21600" h="24626">
                <a:moveTo>
                  <a:pt x="3600" y="0"/>
                </a:moveTo>
                <a:arcTo wR="3600" hR="3600" stAng="16200000" swAng="-5400000"/>
                <a:lnTo>
                  <a:pt x="0" y="21026"/>
                </a:lnTo>
                <a:arcTo wR="3600" hR="3600" stAng="10800000" swAng="-5400000"/>
                <a:lnTo>
                  <a:pt x="18000" y="24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7"/>
          <p:cNvSpPr/>
          <p:nvPr/>
        </p:nvSpPr>
        <p:spPr>
          <a:xfrm>
            <a:off x="6227640" y="4149720"/>
            <a:ext cx="1008360" cy="115092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150920"/>
              <a:gd name="textAreaBottom" fmla="*/ 1101960 h 1150920"/>
            </a:gdLst>
            <a:ahLst/>
            <a:rect l="textAreaLeft" t="textAreaTop" r="textAreaRight" b="textAreaBottom"/>
            <a:pathLst>
              <a:path w="21600" h="24653">
                <a:moveTo>
                  <a:pt x="3600" y="0"/>
                </a:moveTo>
                <a:arcTo wR="3600" hR="3600" stAng="16200000" swAng="-5400000"/>
                <a:lnTo>
                  <a:pt x="0" y="21053"/>
                </a:lnTo>
                <a:arcTo wR="3600" hR="3600" stAng="10800000" swAng="-5400000"/>
                <a:lnTo>
                  <a:pt x="18000" y="24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007960" y="22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9">
            <a:hlinkClick r:id="rId1" action="ppaction://hlinksldjump"/>
          </p:cNvPr>
          <p:cNvSpPr/>
          <p:nvPr/>
        </p:nvSpPr>
        <p:spPr>
          <a:xfrm>
            <a:off x="3564000" y="5732640"/>
            <a:ext cx="2087640" cy="504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ВПЕР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okoistvi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dolgaem_razgov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okoistvi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4"/>
          <p:cNvGrpSpPr/>
          <p:nvPr/>
        </p:nvGrpSpPr>
        <p:grpSpPr>
          <a:xfrm>
            <a:off x="3132000" y="836640"/>
            <a:ext cx="2880000" cy="2592360"/>
            <a:chOff x="3132000" y="836640"/>
            <a:chExt cx="2880000" cy="2592360"/>
          </a:xfrm>
        </p:grpSpPr>
        <p:sp>
          <p:nvSpPr>
            <p:cNvPr id="77" name="Прямоугольник 1"/>
            <p:cNvSpPr/>
            <p:nvPr/>
          </p:nvSpPr>
          <p:spPr>
            <a:xfrm>
              <a:off x="3132000" y="1989000"/>
              <a:ext cx="1440000" cy="144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2"/>
            <p:cNvSpPr/>
            <p:nvPr/>
          </p:nvSpPr>
          <p:spPr>
            <a:xfrm>
              <a:off x="4572000" y="1989000"/>
              <a:ext cx="1440000" cy="144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Равнобедренный треугольник 3"/>
            <p:cNvSpPr/>
            <p:nvPr/>
          </p:nvSpPr>
          <p:spPr>
            <a:xfrm>
              <a:off x="3132000" y="836640"/>
              <a:ext cx="2880000" cy="1152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кругленный прямоугольник 5"/>
          <p:cNvSpPr/>
          <p:nvPr/>
        </p:nvSpPr>
        <p:spPr>
          <a:xfrm>
            <a:off x="4067280" y="4149720"/>
            <a:ext cx="1009440" cy="1150920"/>
          </a:xfrm>
          <a:custGeom>
            <a:avLst/>
            <a:gdLst>
              <a:gd name="textAreaLeft" fmla="*/ 48960 w 1009440"/>
              <a:gd name="textAreaRight" fmla="*/ 960480 w 1009440"/>
              <a:gd name="textAreaTop" fmla="*/ 48960 h 1150920"/>
              <a:gd name="textAreaBottom" fmla="*/ 1101960 h 1150920"/>
            </a:gdLst>
            <a:ahLst/>
            <a:rect l="textAreaLeft" t="textAreaTop" r="textAreaRight" b="textAreaBottom"/>
            <a:pathLst>
              <a:path w="21600" h="24626">
                <a:moveTo>
                  <a:pt x="3600" y="0"/>
                </a:moveTo>
                <a:arcTo wR="3600" hR="3600" stAng="16200000" swAng="-5400000"/>
                <a:lnTo>
                  <a:pt x="0" y="21026"/>
                </a:lnTo>
                <a:arcTo wR="3600" hR="3600" stAng="10800000" swAng="-5400000"/>
                <a:lnTo>
                  <a:pt x="18000" y="24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6"/>
          <p:cNvSpPr/>
          <p:nvPr/>
        </p:nvSpPr>
        <p:spPr>
          <a:xfrm>
            <a:off x="1908000" y="4149720"/>
            <a:ext cx="1008360" cy="115092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150920"/>
              <a:gd name="textAreaBottom" fmla="*/ 1101960 h 1150920"/>
            </a:gdLst>
            <a:ahLst/>
            <a:rect l="textAreaLeft" t="textAreaTop" r="textAreaRight" b="textAreaBottom"/>
            <a:pathLst>
              <a:path w="21600" h="24653">
                <a:moveTo>
                  <a:pt x="3600" y="0"/>
                </a:moveTo>
                <a:arcTo wR="3600" hR="3600" stAng="16200000" swAng="-5400000"/>
                <a:lnTo>
                  <a:pt x="0" y="21053"/>
                </a:lnTo>
                <a:arcTo wR="3600" hR="3600" stAng="10800000" swAng="-5400000"/>
                <a:lnTo>
                  <a:pt x="18000" y="24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7"/>
          <p:cNvSpPr/>
          <p:nvPr/>
        </p:nvSpPr>
        <p:spPr>
          <a:xfrm>
            <a:off x="6227640" y="4149720"/>
            <a:ext cx="1008360" cy="115092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150920"/>
              <a:gd name="textAreaBottom" fmla="*/ 1101960 h 1150920"/>
            </a:gdLst>
            <a:ahLst/>
            <a:rect l="textAreaLeft" t="textAreaTop" r="textAreaRight" b="textAreaBottom"/>
            <a:pathLst>
              <a:path w="21600" h="24653">
                <a:moveTo>
                  <a:pt x="3600" y="0"/>
                </a:moveTo>
                <a:arcTo wR="3600" hR="3600" stAng="16200000" swAng="-5400000"/>
                <a:lnTo>
                  <a:pt x="0" y="21053"/>
                </a:lnTo>
                <a:arcTo wR="3600" hR="3600" stAng="10800000" swAng="-5400000"/>
                <a:lnTo>
                  <a:pt x="18000" y="24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3567960" y="22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9">
            <a:hlinkClick r:id="rId1" action="ppaction://hlinksldjump"/>
          </p:cNvPr>
          <p:cNvSpPr/>
          <p:nvPr/>
        </p:nvSpPr>
        <p:spPr>
          <a:xfrm>
            <a:off x="3564000" y="5732640"/>
            <a:ext cx="2087640" cy="504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ВПЕР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okoistvi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vtrshilos_chu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okoistvi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Группа 4"/>
          <p:cNvGrpSpPr/>
          <p:nvPr/>
        </p:nvGrpSpPr>
        <p:grpSpPr>
          <a:xfrm>
            <a:off x="3132000" y="836640"/>
            <a:ext cx="2880000" cy="2592360"/>
            <a:chOff x="3132000" y="836640"/>
            <a:chExt cx="2880000" cy="2592360"/>
          </a:xfrm>
        </p:grpSpPr>
        <p:sp>
          <p:nvSpPr>
            <p:cNvPr id="86" name="Прямоугольник 1"/>
            <p:cNvSpPr/>
            <p:nvPr/>
          </p:nvSpPr>
          <p:spPr>
            <a:xfrm>
              <a:off x="3132000" y="1989000"/>
              <a:ext cx="1440000" cy="144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ик 2"/>
            <p:cNvSpPr/>
            <p:nvPr/>
          </p:nvSpPr>
          <p:spPr>
            <a:xfrm>
              <a:off x="4572000" y="1989000"/>
              <a:ext cx="1440000" cy="144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Равнобедренный треугольник 3"/>
            <p:cNvSpPr/>
            <p:nvPr/>
          </p:nvSpPr>
          <p:spPr>
            <a:xfrm>
              <a:off x="3132000" y="836640"/>
              <a:ext cx="2880000" cy="1152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060"/>
                  </a:solidFill>
                  <a:latin typeface="Calibri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Скругленный прямоугольник 5"/>
          <p:cNvSpPr/>
          <p:nvPr/>
        </p:nvSpPr>
        <p:spPr>
          <a:xfrm>
            <a:off x="6227640" y="4076640"/>
            <a:ext cx="1008360" cy="115272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152720"/>
              <a:gd name="textAreaBottom" fmla="*/ 1103760 h 1152720"/>
            </a:gdLst>
            <a:ahLst/>
            <a:rect l="textAreaLeft" t="textAreaTop" r="textAreaRight" b="textAreaBottom"/>
            <a:pathLst>
              <a:path w="21600" h="24691">
                <a:moveTo>
                  <a:pt x="3600" y="0"/>
                </a:moveTo>
                <a:arcTo wR="3600" hR="3600" stAng="16200000" swAng="-5400000"/>
                <a:lnTo>
                  <a:pt x="0" y="21091"/>
                </a:lnTo>
                <a:arcTo wR="3600" hR="3600" stAng="10800000" swAng="-5400000"/>
                <a:lnTo>
                  <a:pt x="18000" y="24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1908000" y="4149720"/>
            <a:ext cx="1008360" cy="115092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150920"/>
              <a:gd name="textAreaBottom" fmla="*/ 1101960 h 1150920"/>
            </a:gdLst>
            <a:ahLst/>
            <a:rect l="textAreaLeft" t="textAreaTop" r="textAreaRight" b="textAreaBottom"/>
            <a:pathLst>
              <a:path w="21600" h="24653">
                <a:moveTo>
                  <a:pt x="3600" y="0"/>
                </a:moveTo>
                <a:arcTo wR="3600" hR="3600" stAng="16200000" swAng="-5400000"/>
                <a:lnTo>
                  <a:pt x="0" y="21053"/>
                </a:lnTo>
                <a:arcTo wR="3600" hR="3600" stAng="10800000" swAng="-5400000"/>
                <a:lnTo>
                  <a:pt x="18000" y="24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7"/>
          <p:cNvSpPr/>
          <p:nvPr/>
        </p:nvSpPr>
        <p:spPr>
          <a:xfrm>
            <a:off x="4067280" y="4149720"/>
            <a:ext cx="1009440" cy="1150920"/>
          </a:xfrm>
          <a:custGeom>
            <a:avLst/>
            <a:gdLst>
              <a:gd name="textAreaLeft" fmla="*/ 48960 w 1009440"/>
              <a:gd name="textAreaRight" fmla="*/ 960480 w 1009440"/>
              <a:gd name="textAreaTop" fmla="*/ 48960 h 1150920"/>
              <a:gd name="textAreaBottom" fmla="*/ 1101960 h 1150920"/>
            </a:gdLst>
            <a:ahLst/>
            <a:rect l="textAreaLeft" t="textAreaTop" r="textAreaRight" b="textAreaBottom"/>
            <a:pathLst>
              <a:path w="21600" h="24626">
                <a:moveTo>
                  <a:pt x="3600" y="0"/>
                </a:moveTo>
                <a:arcTo wR="3600" hR="3600" stAng="16200000" swAng="-5400000"/>
                <a:lnTo>
                  <a:pt x="0" y="21026"/>
                </a:lnTo>
                <a:arcTo wR="3600" hR="3600" stAng="10800000" swAng="-5400000"/>
                <a:lnTo>
                  <a:pt x="18000" y="24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5007960" y="2133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9"/>
          <p:cNvSpPr/>
          <p:nvPr/>
        </p:nvSpPr>
        <p:spPr>
          <a:xfrm>
            <a:off x="3564000" y="5732640"/>
            <a:ext cx="2087640" cy="504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ВПЕР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pokoistvi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vtrshilos_chu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pokoistvi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ОЦЕНИ СЕБ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Управляющая кнопка: домой 2"/>
          <p:cNvSpPr/>
          <p:nvPr/>
        </p:nvSpPr>
        <p:spPr>
          <a:xfrm>
            <a:off x="8172360" y="5877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возврат 3">
            <a:hlinkClick r:id="" action="ppaction://hlinkshowjump?jump=endshow"/>
          </p:cNvPr>
          <p:cNvSpPr/>
          <p:nvPr/>
        </p:nvSpPr>
        <p:spPr>
          <a:xfrm>
            <a:off x="8172360" y="404640"/>
            <a:ext cx="576360" cy="538200"/>
          </a:xfrm>
          <a:custGeom>
            <a:avLst/>
            <a:gdLst>
              <a:gd name="textAreaLeft" fmla="*/ 34560 w 576360"/>
              <a:gd name="textAreaRight" fmla="*/ 541800 w 576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30" h="21600">
                <a:moveTo>
                  <a:pt x="0" y="0"/>
                </a:moveTo>
                <a:lnTo>
                  <a:pt x="23130" y="0"/>
                </a:lnTo>
                <a:lnTo>
                  <a:pt x="23130" y="21600"/>
                </a:lnTo>
                <a:lnTo>
                  <a:pt x="0" y="21600"/>
                </a:lnTo>
                <a:close/>
              </a:path>
              <a:path fill="lightenLess" w="23130" h="21600">
                <a:moveTo>
                  <a:pt x="0" y="0"/>
                </a:moveTo>
                <a:lnTo>
                  <a:pt x="23130" y="0"/>
                </a:lnTo>
                <a:lnTo>
                  <a:pt x="21730" y="1400"/>
                </a:lnTo>
                <a:lnTo>
                  <a:pt x="1400" y="1400"/>
                </a:lnTo>
                <a:close/>
              </a:path>
              <a:path fill="darken" w="23130" h="21600">
                <a:moveTo>
                  <a:pt x="23130" y="0"/>
                </a:moveTo>
                <a:lnTo>
                  <a:pt x="23130" y="21600"/>
                </a:lnTo>
                <a:lnTo>
                  <a:pt x="21730" y="20200"/>
                </a:lnTo>
                <a:lnTo>
                  <a:pt x="21730" y="1400"/>
                </a:lnTo>
                <a:close/>
              </a:path>
              <a:path fill="darkenLess" w="23130" h="21600">
                <a:moveTo>
                  <a:pt x="23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0" y="20200"/>
                </a:lnTo>
                <a:close/>
              </a:path>
              <a:path fill="lighten" w="23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0" h="21600">
                <a:moveTo>
                  <a:pt x="4559" y="7493"/>
                </a:moveTo>
                <a:lnTo>
                  <a:pt x="8066" y="7493"/>
                </a:lnTo>
                <a:lnTo>
                  <a:pt x="8066" y="12828"/>
                </a:lnTo>
                <a:cubicBezTo>
                  <a:pt x="8066" y="13751"/>
                  <a:pt x="8867" y="14482"/>
                  <a:pt x="9903" y="14482"/>
                </a:cubicBezTo>
                <a:lnTo>
                  <a:pt x="11565" y="14482"/>
                </a:lnTo>
                <a:cubicBezTo>
                  <a:pt x="12601" y="14482"/>
                  <a:pt x="13402" y="13751"/>
                  <a:pt x="13402" y="12828"/>
                </a:cubicBezTo>
                <a:lnTo>
                  <a:pt x="13402" y="7493"/>
                </a:lnTo>
                <a:lnTo>
                  <a:pt x="11565" y="7493"/>
                </a:lnTo>
                <a:lnTo>
                  <a:pt x="15073" y="3985"/>
                </a:lnTo>
                <a:lnTo>
                  <a:pt x="18746" y="7493"/>
                </a:lnTo>
                <a:lnTo>
                  <a:pt x="16909" y="7493"/>
                </a:lnTo>
                <a:lnTo>
                  <a:pt x="16909" y="12828"/>
                </a:lnTo>
                <a:cubicBezTo>
                  <a:pt x="16909" y="15596"/>
                  <a:pt x="14333" y="18155"/>
                  <a:pt x="11565" y="18155"/>
                </a:cubicBezTo>
                <a:lnTo>
                  <a:pt x="9903" y="18155"/>
                </a:lnTo>
                <a:cubicBezTo>
                  <a:pt x="7135" y="18155"/>
                  <a:pt x="4559" y="15596"/>
                  <a:pt x="4559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Малыш и Карлсон 00_09_49-00_10_37 00_00_00-00_00_43.avi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37080" cy="34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занцева Наталья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зендзус Инна Вита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БОУ «ООШ № 39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. Кемер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йт: «Школа АБВ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http://www.shkola-abv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3:42:48Z</dcterms:created>
  <dc:creator>натусик; инчик</dc:creator>
  <dc:description/>
  <cp:keywords>математика 1 класс</cp:keywords>
  <dc:language>en-US</dc:language>
  <cp:lastModifiedBy>Boris</cp:lastModifiedBy>
  <dcterms:modified xsi:type="dcterms:W3CDTF">2012-12-24T17:21:51Z</dcterms:modified>
  <cp:revision>36</cp:revision>
  <dc:subject/>
  <dc:title>Весёлый счёт  с Карлсоном</dc:title>
</cp:coreProperties>
</file>